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60B3-56CD-4B6D-8063-D25C6F40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45B-9DD0-4008-B0F1-B3D345C7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04B8-5AAC-46C1-BA11-8E7596AB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8C52-CA1C-4D80-BD8E-B23593DA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480D-954E-4C48-9059-E9C4CF46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D8D3-88E4-4E15-92F7-707CE7D0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7005-2AB9-4175-ACD4-26ADBCE2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3E9C-65CC-43B5-9C75-F6218153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12A0-4BB8-42CE-8DF8-6E49FC33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A402-2E9D-42D5-97B4-E95677AC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BE0B-5967-40F5-A725-4463F88E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43D-36BA-491A-80F3-EBE2B348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F2D2-52E3-49FB-9F9A-0E46D086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5D3F-8C5E-4677-BF7D-19246843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2E9F-E0A5-4AE1-AF99-B1A9DF2B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D8CF-F884-456A-B3A5-94F49D01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5E5A-5136-4284-A5B7-09183382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3B99-4561-4843-B200-70092C7E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5B66-D721-4BB2-AF32-8DF30902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432-EAFA-436B-84C1-10E7DED5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CE5-9A08-4C3D-ADF2-3A6E2324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03C-BD72-499D-AF1F-3070EFCA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6AF8-21D5-4836-B0A2-554EB1CD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698-F38F-4790-B39F-D4FCAB84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B3B5-E223-4E21-8AD5-ECFE3A9153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3BE1-BA54-4331-AEB6-F806E09FAF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PTF Verifiable Cost Sub-group Summa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 to W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/16/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im Galvin- TPTF VC Sub-group Ch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xisting Issues (Con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1827360"/>
            <a:ext cx="69343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General Issues that need to be addres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ing Power Purchase Agreements in the VC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o consensus on allowing PPA’s as part of Verifiable Cos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Entity or QSE submits Verifiable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solved- Resource Entity being the source with required affirmation from the QSE and/or Resource Entit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xisting Issues (Con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827360"/>
            <a:ext cx="69343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General Issues that need to b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d Cycle Un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solved- Resource Entities may submit Verifiable Cost information for the number of registered configurations, and will be required once a configuration is RUC’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ly Owned Un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RCOT to provide additional information on how JOU’s are registered and the role of the Master QSE with the JO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xisting Issues (Con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able Cost Process as a voluntary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submittal of Verifiable Costs is voluntary until a single RUC occur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s centered around rare instances when a RUC was given to a resource that is not anticipated to be RUC’d frequently (Coal, Nuc et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nsensus on making the VC Process entirely voluntary (allowing Generic in lieu of V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discussions on increasing the trigger to help mitigate rare RUC’s and the time and effort to verify cost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.e. X number of RUC’s in a rolling 12-month perio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71800" y="2895480"/>
            <a:ext cx="29718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eeting Summa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692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 Sub-group has met five times between mid December and January 14 with final meeting scheduled for January 2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mplish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d Goals and Deliverables from the Sub-gr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ed list of “Principles” for the Verifiable Cost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d list of Issues under each VC Princi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d most issues and have identified additional discussion points to report to TPTF and WMS for dir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oals and Deliverabl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692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PTF VC Sub-group utilized the following approach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current issues in the VC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issues where there is consensus on an approach, identify necessary deliverables (changes to manual, NPRR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issues where no consensus was reach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directly to TPTF and WMS on Sub-group a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C Principl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827360"/>
            <a:ext cx="80773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able Start-up and Minimum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able Incremental Heat 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able O&amp;M Costs as Average Incremental Co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 of Risk Resource Owners take in recovery of Start-up and Minimum Energy Co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C Process intends to make Generators whole and minimize costs to Loa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C Principles (Cont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827360"/>
            <a:ext cx="75438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P and FOP as defined by Protoc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issions Costs/Credits as part of verifiable O&amp;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 Owners should have a process to address exceptional events that create significant ha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able Cost Process is to be used prospectiv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xisting Issu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able Start-up and Min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ing Costs from Breaker Close to LSL (resolv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ing Shut-down Costs in Start-up (resolv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ing Start Costs when RUC is cancelled (by ERCOT) and Cost recovery during S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are occurrences will be noted in Protocols and cost recovery through dispute pro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Auxiliary Equipment for Start-up (resolv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Starts outside Warranty (moved to Variable O&amp;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xisting Issues (Con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827000"/>
            <a:ext cx="80010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able Incremental Heat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monotonically non-decreasing Incremental Heat Rate Curve (resolv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rical Data versus Test Data (resolved as either 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able O&amp;M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-year requirement for data/evidence of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esolved- 10-year or whatever period is available if entity does not have 10-years worth of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calation 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esolved- Handy-Whitman index used as reasonable mea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able types of documentation, invoices, other ev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abled for further discussion as this does not impact system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 form of Generic O&amp;M values a potential solu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xisting Issues (Con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P and FO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Transportation Costs, Imbalance Fees, Swing Contracts, and Spot Gas price diverging from Ind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solved for discussion under “Exceptional Events” as “cost recovery” and not part of Verifiable Cost Pro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issions Co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Methodology needed for addressing Emis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solved for SOX using fuel, lbs/mmbtu and a $/MWh ra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pen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ndex appropriate for the rate for SOX or historical cost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emissions to be discussed separate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requirements are difficult to price on a linear ba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xisting Issues (Con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al Ev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define or list “Exceptional Events” (February 2003 used as frequent discussion examp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 points focused 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sts after the close of Gas Da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pot gas differing significantly from Index, is there an appropriate trigg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st recover for what are considered rare event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5:41:07Z</dcterms:created>
  <dc:creator>Registered User</dc:creator>
  <dc:description/>
  <dc:language>en-US</dc:language>
  <cp:lastModifiedBy>Registered User</cp:lastModifiedBy>
  <dcterms:modified xsi:type="dcterms:W3CDTF">2008-01-16T00:12:28Z</dcterms:modified>
  <cp:revision>17</cp:revision>
  <dc:subject/>
  <dc:title>DEWG Meeting Summary</dc:title>
</cp:coreProperties>
</file>